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FBC5-8FAB-4CC6-97AC-837093B8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62A1-C9CA-476E-B1DA-5697B41D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AE4B-7193-4AAE-8204-4B493878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F3C0-93CF-4F33-A67E-2C4EC958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9B9A-8766-40BB-8BF3-B6BE8CE0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727C-CB0C-4AE0-B684-EF9BE6B0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92AE-A9C7-4BD3-B8AB-64A74C43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B8B7-3145-45CB-9A63-C2E2D64E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6486-473F-4A49-9B59-545E137C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431D-CD80-4C93-9125-04C60EFC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8BBB-53BA-4282-8259-A616523F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773C-019D-48D0-9DD3-13C5E82E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15200" y="4800600"/>
            <a:ext cx="1828800" cy="160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66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7FE3-F021-4F7C-9B5E-0395D928A182}" type="slidenum">
              <a:rPr b="0" lang="en-US" sz="1000" spc="-1" strike="noStrike">
                <a:solidFill>
                  <a:srgbClr val="ff00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733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00400" y="1219320"/>
            <a:ext cx="5943600" cy="5225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hoosing Quality Children’s Trade Books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880" y="2743200"/>
            <a:ext cx="3733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Show Originality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t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children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ique characters or situ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show them the world from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ique view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e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ildren’s minds, giving them new ways to think about the world and new possibilities to think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BCD4-F15C-4070-BB1D-E7CB93D23A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How Can We Judge “Quality”?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igi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ce of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maginative use of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auty of literary and artistic style that enable book to remain fresh, interesting, and meaningful for ye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D456-C7B7-46F7-9091-650044CCDA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Times New Roman"/>
              </a:rPr>
              <a:t>Get to know children’s literature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d and enjoy children’s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d children’s books with a sense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olv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d a variety of book ty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d books for a wide variety of abil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are with your colleagues how you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udents respond to particular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rt by reading several book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idered to be of “good” 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lk with children about book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0742-8B3A-4655-ACC8-75CE2910B4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3733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hildren’s Literature Awards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80880" y="2743200"/>
            <a:ext cx="3733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For the Book: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Newbery A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ok judged to be the most distinguished contribution to children’s literature published in the U.S. during the previous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rah, Plain and 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Patricia MacLach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Whipping Bo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Sid Fleisch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Louis Sa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ston Globe-Horn Book A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utstanding example of Fiction and Nonf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ction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Popp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Avi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ssing M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Cynthia Ry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Fiction: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journer Truth:  Ain’t I a Wom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Patricia &amp; Fredrick McKiss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7158-283E-41AC-9B96-FED6951F0B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For the Illustrations: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dolph Caldecott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warded to the illustrator of the most distinguished children’s book published the previous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ficer Buckle and Glo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y Peggy Rath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wl Mo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y Jane Y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ston Globe-Horn Book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utstanding example of illu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andfather’s Journ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y Alan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faro’s Beautiful Daugh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y Joh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6080-3410-451C-A7E5-6E2B3E612F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For “New Talent” in Children’s Writing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Reading Association Children’s Book A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uthor who writes for older r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tters from Rif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Karen H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uthor who writes for younger r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eet Clara and the Freedom Qui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Deborah Hopkinson, Illustrated by James Ran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uthor who writes informational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rooklyn Brid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Elizabeth 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zra Jack Keats New Writer’s A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ising new writer who has had six or fewer children’s books pu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r Be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y Faith Ringg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863C-3D59-4922-BB32-11CC7DA759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frican American Authors/Illustrators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tta Scott King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books that encourage understanding and appreciation of people of all cultures and the pursuit of “the American Drea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Friendsh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y Mildred Tay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Young Landl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y Walter Dean M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FD11-DBE3-47BC-AADA-C4A663A893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o Author/Illustrator for Entire Body of Work: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ns Christian Andersen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author and one illustrator in recognition of an entire body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s: Paula Fox, Virginia Hamilton, Scott O’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ors:  Mitsumasa Anno, Lisbeth Zwe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ura Ingalls Wilder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 or illustrator whose works have made a substantial and lasting contribution to children’s literature over a period of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Seuss, Virginia Hamilton, E. B.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77B-AB3B-4673-BC81-F41F4C006C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733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reating a Classroom Library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Time for a little thinking…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of one of your favorite books from Grades 3-6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kes a quality piece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ildren’s liter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s of books are in a high-quali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room libr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Grades 3-6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/pair/share with your gro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9592-635A-42C0-A7F4-9769E21130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 Well-Rounded, Interesting Classroom Library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dern, realistic literature as well a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e traditional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oks with different types of t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oks of varying diffi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variety of gen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ormational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oks whose characters realisticall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pict various cultural groups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fe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oks that meet students’ read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8D47-3A52-4534-A594-7CCAEE83E5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Genres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aditional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yths and religious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bles (proverbs explicitly stated at the 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lktales (word of mouth, unknown origi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urquoi Tale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lain phenom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ll Tales and Legends (greatly exaggerated accounts of heros and legend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mulative tales (repeating and adding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ry tales (folktales that involve magi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renticeship/Hero tales (character rises fro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owly to high estate, or from ignored/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atened to recognized/rewarded for goo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i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F547-E01A-437B-BF0E-1DB35C1665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Genres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alistic f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storical f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ntasy and science fi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graphy (depending on struc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nar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2318-F025-44C5-ABFE-AC2DBFB52A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fferent types of texts require different ways of understanding and recalling the most important ideas…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rrative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pository?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8AE0-8B65-499F-A126-76EAA40B36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What is a narrative text?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lls a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ed on life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son-oriented using dialogue and familiar langu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ritten in first, second, or third per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ent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tell a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an aesthetic exper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story gram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1A2C-D100-463D-B10C-3AC0DEBC77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Story Grammar/Story Structure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3A04-57E1-4933-AC0B-BD23790239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Less Complex Story Grammar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ning (characters, setting, prob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(ev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(resol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4738-F46B-4569-9427-94E6FE6F5E2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More Complex Story Grammar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s (antagonist/protagonist), setting, problem (conflict), initiating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ing points, crisis, rising action, climax, subplot, parallel epis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, falling action, 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AB64-7D3D-4D7C-B06E-75357C086CB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What is an expository text?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fi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al 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otographic e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convey information about the natural and social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s facts, details, opinions, and examples to inform or persu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varied text patterns (e.g., time order, enumeration, compare/contrast, cause/effect, problem/sol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B55C-294C-4624-AC64-359F865530A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763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t across both types of texts, good readers use at least five metacognitive comprehension strategies…</a:t>
            </a: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r homework is to find out what these are (Chapter 1).  And come prepared with 2 questions predicting what Thursday’s readings will be about (preview Chapter 2)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0538-F269-4433-B853-842C1C19759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What Constitutes “Children’s” Literature?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ild protagonist and an issue that concerns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aightforward story line, with a linear and limited time sequence in a confined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that is concrete and vivid and not overly 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le, C., Martinez, M., Yokota, J., &amp; Naylor, A. (1998).  Children’s book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children’s hands.  Boston:  Allyn and Bac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2D4B-87E1-4FDB-8D63-4BD29E2D7A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How Do We Recognize “Quality” Children’s literature?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boo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enjoyable read that doesn’t overly teach or mor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the tr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ody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origi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C4E9-5A18-4E34-9C91-4930962990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Expand Awareness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boo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children names for things in the world and for their ow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children inside other characters’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rspec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n children’s understanding of the world and their capacity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m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BF05-8007-42BE-933E-87EA7FF44C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Provide an Enjoyable Read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books provid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s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 way that is not overly contrived or mor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book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lesson rather than tell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3A12-DFC2-40D8-92B0-74D7C213AF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Tell the Truth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boo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deal with significant truths about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uman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s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ue to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sigh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books imply are accurate, and, perhap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A3F1-CA89-4A10-B729-4CB041FE4E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Embody Quality</a:t>
            </a:r>
            <a:endParaRPr b="1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ood boo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r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precisely chosen, often poetic in their sound and ima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l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nvi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rac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believ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cri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rich and t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0B73-17C8-44BA-88EC-2CDBF712FD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Have Integrity  </a:t>
            </a:r>
            <a:br>
              <a:rPr sz="3600"/>
            </a:b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sense of bo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leness or completenes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re, plot, language, characters, style, theme, illustrations (if any) come together to creat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atisfying wh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ness of moral charac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ee powerpoint template: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EFA4-C0FE-40BA-BB38-B69BDE8410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19:59:22Z</dcterms:created>
  <dc:creator>SOE</dc:creator>
  <dc:description/>
  <dc:language>en-US</dc:language>
  <cp:lastModifiedBy>Julie Coiro</cp:lastModifiedBy>
  <cp:lastPrinted>2008-01-22T03:05:00Z</cp:lastPrinted>
  <dcterms:modified xsi:type="dcterms:W3CDTF">2008-01-22T16:20:07Z</dcterms:modified>
  <cp:revision>20</cp:revision>
  <dc:subject/>
  <dc:title>Choosing Quality Children’s Trade Books</dc:title>
</cp:coreProperties>
</file>